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C31F0-0F52-49C0-BB5D-2CBAF08E50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2BF6A-45F9-4559-AA99-72AE4CBC0F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43A-3B2F-4234-86C0-4AA006A7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5EA-C3C6-4A2C-94D4-002ADEB8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D788D-84E9-483B-89EF-9452CA43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89AAC-FA04-4335-9789-3A092088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7880E-89AA-4DAA-A025-5876739B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78AE-E50B-476D-BEB3-D51B0AF4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E7EC-A9E7-4770-9472-534F5933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1E633-68C3-4BFF-BA57-9FC0589A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9C998-F46C-4A9C-9B05-12D1A705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5ADB-D53C-4E01-8A46-396BEF9C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32184-5A48-49F3-B099-EC3D529C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AF7-C2CB-4EC5-870D-4D30DD30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503-E23E-4A3F-9C9D-D0E83204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BA3-AB20-459C-9A6D-A65F25CA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DC8-E433-4B6F-9F81-AFBA0DC1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C2C-4DD9-4DB7-B23B-572C404B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6D4-C977-49EB-A071-04204140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272-DF25-434C-AFF3-0650A8D1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9589-44F1-4A00-BA2C-941B3020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3BB9-D55F-4D06-A019-9FB7FCA6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2F7C-99F8-42D7-B5B1-72A482EA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4FFC-E061-45C0-90B0-ED4E6CA9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8412-421A-4B6C-B45D-1FCAC0A5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0929-E75E-4AFA-B62D-4AA0A43B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F1CA-BC32-4A84-AAC6-DFE528AE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EABD-3824-488F-900E-76F31D3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FF34-593D-441E-B340-24886B6E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B66-F588-4351-A091-176BD076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6FED-FF27-4C9A-9E8D-F7621E91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D564-EA1E-4F99-8D5E-30A3D84A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8BB1-E306-440F-8538-9091E939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61FA-453F-491D-9742-CB679872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7ACF-C47E-4BB1-B513-8496BB06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660C-3249-49D3-B0B7-49A570C8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1710-DCDA-433B-BEB7-7A6EF3AB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770C-846D-422F-97E9-05373E03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4672-2BD8-42F2-979B-946445D6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A195-8131-4BC9-B1C3-617AF37A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AE7-6EA3-4DAE-9194-99CC857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0537-A34C-4F71-BE5E-CBC3362D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C6AB-19A0-4EF0-8DF3-0E01B1EB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8CAA-26C4-4863-867E-037DFAF3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C732-C53D-46CB-8C9C-47E95F2D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BE4E0-406E-4B64-A2FE-565004C6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EB043-DDF0-412A-8854-3D279C69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35D11-6573-4090-B7B7-1029310D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61CD0-AC63-4A11-8EAB-9B1FC723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B4018-ADBE-417B-BA91-596566E6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DD0F-ED01-48A2-9373-74E0B204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2E2-B9F0-4865-8B7F-DB3757A2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60E9-EECF-46F8-8206-1A998CB4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6BFC6-D4BA-48E4-B51E-0577F1A8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2BE2-5EE5-4926-BD1F-6A38F86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23091-6D5E-4BBD-A964-96B20F4C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645C-9F11-4A19-8102-4B92396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5003-3F19-4B7B-88EF-513C35F6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A172-6530-42AD-8B54-363E97E3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BDCE7-7598-45E4-BCA0-B72D29F0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4D23-741B-4485-96A4-DD407D71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656B7-6E6A-4CF6-96D7-26A14DD1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316F4-4822-47CB-8AE9-AFF6BE9EC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15"/>
          <p:cNvSpPr/>
          <p:nvPr/>
        </p:nvSpPr>
        <p:spPr>
          <a:xfrm>
            <a:off x="209520" y="6515280"/>
            <a:ext cx="87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01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PNP Bac Pro Gestion-Administration – 10 et 11 mai 2012 – Lyon </a:t>
            </a: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	</a:t>
            </a:r>
            <a:fld id="{19D97ABB-F5A4-4DAA-BA48-5AEB08FB5A4F}" type="slidenum">
              <a:rPr b="1" lang="fr-FR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lipse 16"/>
          <p:cNvSpPr/>
          <p:nvPr/>
        </p:nvSpPr>
        <p:spPr>
          <a:xfrm>
            <a:off x="8437680" y="6507000"/>
            <a:ext cx="388800" cy="339840"/>
          </a:xfrm>
          <a:prstGeom prst="ellipse">
            <a:avLst/>
          </a:prstGeom>
          <a:noFill/>
          <a:ln w="25560">
            <a:solidFill>
              <a:srgbClr val="7d8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44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0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 6" descr="imgae.tiff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Sous-titre 2"/>
          <p:cNvSpPr/>
          <p:nvPr/>
        </p:nvSpPr>
        <p:spPr>
          <a:xfrm>
            <a:off x="2158920" y="5073480"/>
            <a:ext cx="6400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Programme National de Pilo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898989"/>
                </a:solidFill>
                <a:latin typeface="Calibri"/>
              </a:rPr>
              <a:t>Lyon – 10 &amp; 11 mai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E:\Mes docs\DD_Paris\AL\2010_2011\BTS_SIO\MENJVA_LOGO_Q.gif"/>
          <p:cNvPicPr/>
          <p:nvPr/>
        </p:nvPicPr>
        <p:blipFill>
          <a:blip r:embed="rId3"/>
          <a:stretch/>
        </p:blipFill>
        <p:spPr>
          <a:xfrm>
            <a:off x="7651800" y="176040"/>
            <a:ext cx="1206360" cy="1114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ZoneTexte 15"/>
          <p:cNvSpPr/>
          <p:nvPr/>
        </p:nvSpPr>
        <p:spPr>
          <a:xfrm>
            <a:off x="209520" y="6515280"/>
            <a:ext cx="87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01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PNP Bac Pro Gestion-Administration – 10 et 11 mai 2012 – Lyon </a:t>
            </a: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	</a:t>
            </a:r>
            <a:fld id="{AF7FC4B6-9C19-451F-AA6D-AC74DCB7A332}" type="slidenum">
              <a:rPr b="1" lang="fr-FR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6"/>
          <p:cNvSpPr/>
          <p:nvPr/>
        </p:nvSpPr>
        <p:spPr>
          <a:xfrm>
            <a:off x="8437680" y="6507000"/>
            <a:ext cx="388800" cy="339840"/>
          </a:xfrm>
          <a:prstGeom prst="ellipse">
            <a:avLst/>
          </a:prstGeom>
          <a:noFill/>
          <a:ln w="25560">
            <a:solidFill>
              <a:srgbClr val="7d8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144" name="Rectangle 9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9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ZoneTexte 15"/>
          <p:cNvSpPr/>
          <p:nvPr/>
        </p:nvSpPr>
        <p:spPr>
          <a:xfrm>
            <a:off x="209520" y="6515280"/>
            <a:ext cx="87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01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PNP Bac Pro Gestion-Administration – 10 et 11 mai 2012 – Lyon </a:t>
            </a:r>
            <a:r>
              <a:rPr b="0" lang="fr-FR" sz="1200" spc="-1" strike="noStrike">
                <a:solidFill>
                  <a:srgbClr val="7d868d"/>
                </a:solidFill>
                <a:latin typeface="Calibri"/>
              </a:rPr>
              <a:t>	</a:t>
            </a:r>
            <a:fld id="{81E0469F-3844-4F78-8334-B2522659ED47}" type="slidenum">
              <a:rPr b="1" lang="fr-FR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llipse 16"/>
          <p:cNvSpPr/>
          <p:nvPr/>
        </p:nvSpPr>
        <p:spPr>
          <a:xfrm>
            <a:off x="8437680" y="6507000"/>
            <a:ext cx="388800" cy="339840"/>
          </a:xfrm>
          <a:prstGeom prst="ellipse">
            <a:avLst/>
          </a:prstGeom>
          <a:noFill/>
          <a:ln w="25560">
            <a:solidFill>
              <a:srgbClr val="7d86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203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0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260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BBFEF-7B32-4B59-8F81-92A0C4BD1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320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7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B1095-1692-4355-8A6B-DC578D19F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380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7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C2E3B-1A34-4B36-892F-4E2571A20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9"/>
          <p:cNvGrpSpPr/>
          <p:nvPr/>
        </p:nvGrpSpPr>
        <p:grpSpPr>
          <a:xfrm>
            <a:off x="0" y="259920"/>
            <a:ext cx="324000" cy="6409080"/>
            <a:chOff x="0" y="259920"/>
            <a:chExt cx="324000" cy="6409080"/>
          </a:xfrm>
        </p:grpSpPr>
        <p:sp>
          <p:nvSpPr>
            <p:cNvPr id="440" name="Rectangle 7"/>
            <p:cNvSpPr/>
            <p:nvPr/>
          </p:nvSpPr>
          <p:spPr>
            <a:xfrm flipH="1">
              <a:off x="71280" y="4797360"/>
              <a:ext cx="252720" cy="25236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9"/>
            <p:cNvSpPr/>
            <p:nvPr/>
          </p:nvSpPr>
          <p:spPr>
            <a:xfrm flipH="1">
              <a:off x="108000" y="1052640"/>
              <a:ext cx="162000" cy="16164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1"/>
            <p:cNvSpPr/>
            <p:nvPr/>
          </p:nvSpPr>
          <p:spPr>
            <a:xfrm flipH="1">
              <a:off x="0" y="907920"/>
              <a:ext cx="108000" cy="10800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1"/>
            <p:cNvSpPr/>
            <p:nvPr/>
          </p:nvSpPr>
          <p:spPr>
            <a:xfrm flipH="1">
              <a:off x="107280" y="3429000"/>
              <a:ext cx="144360" cy="144360"/>
            </a:xfrm>
            <a:prstGeom prst="rect">
              <a:avLst/>
            </a:prstGeom>
            <a:solidFill>
              <a:srgbClr val="dbe5f1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6"/>
            <p:cNvSpPr/>
            <p:nvPr/>
          </p:nvSpPr>
          <p:spPr>
            <a:xfrm>
              <a:off x="0" y="5516640"/>
              <a:ext cx="250920" cy="2318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7"/>
            <p:cNvSpPr/>
            <p:nvPr/>
          </p:nvSpPr>
          <p:spPr>
            <a:xfrm flipV="1">
              <a:off x="108000" y="299664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8"/>
            <p:cNvSpPr/>
            <p:nvPr/>
          </p:nvSpPr>
          <p:spPr>
            <a:xfrm flipV="1">
              <a:off x="108000" y="1647000"/>
              <a:ext cx="125280" cy="12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8"/>
            <p:cNvSpPr/>
            <p:nvPr/>
          </p:nvSpPr>
          <p:spPr>
            <a:xfrm flipV="1">
              <a:off x="73080" y="2491560"/>
              <a:ext cx="198360" cy="19836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6"/>
            <p:cNvSpPr/>
            <p:nvPr/>
          </p:nvSpPr>
          <p:spPr>
            <a:xfrm>
              <a:off x="108000" y="549360"/>
              <a:ext cx="216000" cy="21564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8"/>
            <p:cNvSpPr/>
            <p:nvPr/>
          </p:nvSpPr>
          <p:spPr>
            <a:xfrm flipV="1">
              <a:off x="54000" y="373536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7"/>
            <p:cNvSpPr/>
            <p:nvPr/>
          </p:nvSpPr>
          <p:spPr>
            <a:xfrm flipV="1">
              <a:off x="34920" y="4436280"/>
              <a:ext cx="198360" cy="198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7"/>
            <p:cNvSpPr/>
            <p:nvPr/>
          </p:nvSpPr>
          <p:spPr>
            <a:xfrm flipV="1">
              <a:off x="108000" y="259560"/>
              <a:ext cx="144360" cy="14436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 flipH="1">
              <a:off x="179280" y="2060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9"/>
            <p:cNvSpPr/>
            <p:nvPr/>
          </p:nvSpPr>
          <p:spPr>
            <a:xfrm flipH="1">
              <a:off x="108000" y="4076640"/>
              <a:ext cx="162000" cy="162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8"/>
            <p:cNvSpPr/>
            <p:nvPr/>
          </p:nvSpPr>
          <p:spPr>
            <a:xfrm flipV="1">
              <a:off x="108000" y="5950080"/>
              <a:ext cx="125280" cy="125280"/>
            </a:xfrm>
            <a:prstGeom prst="rect">
              <a:avLst/>
            </a:prstGeom>
            <a:solidFill>
              <a:srgbClr val="bfbfb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9"/>
            <p:cNvSpPr/>
            <p:nvPr/>
          </p:nvSpPr>
          <p:spPr>
            <a:xfrm flipH="1">
              <a:off x="179280" y="6362640"/>
              <a:ext cx="108000" cy="108000"/>
            </a:xfrm>
            <a:prstGeom prst="rect">
              <a:avLst/>
            </a:prstGeom>
            <a:solidFill>
              <a:srgbClr val="b8cce4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7"/>
            <p:cNvSpPr/>
            <p:nvPr/>
          </p:nvSpPr>
          <p:spPr>
            <a:xfrm flipV="1">
              <a:off x="108000" y="659772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7"/>
            <p:cNvSpPr/>
            <p:nvPr/>
          </p:nvSpPr>
          <p:spPr>
            <a:xfrm flipV="1">
              <a:off x="108000" y="1413000"/>
              <a:ext cx="71280" cy="71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310D0-2720-44D2-A848-20FDCEFAF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54240" y="2130120"/>
            <a:ext cx="6711840" cy="1469880"/>
          </a:xfrm>
          <a:prstGeom prst="rect">
            <a:avLst/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Atelier rédactionnel en seconde professionnelle gestion adminis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153880" y="3795480"/>
            <a:ext cx="66229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Bac Professionnel Gestion-Administration</a:t>
            </a:r>
            <a:br>
              <a:rPr sz="2400"/>
            </a:b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Guide d’accompagnement pédagog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7651800" y="176040"/>
            <a:ext cx="1206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 Black"/>
              </a:rPr>
              <a:t>Quelques exemples d’écr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 Black"/>
              </a:rPr>
              <a:t>Ces exemples sont bruts, non animés, non commenté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 Black"/>
              </a:rPr>
              <a:t>Ils peuvent servir en groupe ou individuellement de support pour des ateliers rédactionnels. Ils sont à votre disposition, à vous de construire leur utilis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Image 5" descr="ecran 1.JPG"/>
          <p:cNvPicPr/>
          <p:nvPr/>
        </p:nvPicPr>
        <p:blipFill>
          <a:blip r:embed="rId1"/>
          <a:stretch/>
        </p:blipFill>
        <p:spPr>
          <a:xfrm>
            <a:off x="250920" y="885960"/>
            <a:ext cx="8642160" cy="549576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4"/>
          <p:cNvSpPr/>
          <p:nvPr/>
        </p:nvSpPr>
        <p:spPr>
          <a:xfrm>
            <a:off x="250920" y="620640"/>
            <a:ext cx="8569080" cy="547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Image 4" descr="ecran 4.JPG"/>
          <p:cNvPicPr/>
          <p:nvPr/>
        </p:nvPicPr>
        <p:blipFill>
          <a:blip r:embed="rId1"/>
          <a:stretch/>
        </p:blipFill>
        <p:spPr>
          <a:xfrm>
            <a:off x="0" y="736560"/>
            <a:ext cx="91440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age 4" descr="ecran 5.JPG"/>
          <p:cNvPicPr/>
          <p:nvPr/>
        </p:nvPicPr>
        <p:blipFill>
          <a:blip r:embed="rId1"/>
          <a:stretch/>
        </p:blipFill>
        <p:spPr>
          <a:xfrm>
            <a:off x="0" y="736560"/>
            <a:ext cx="91440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Image 1" descr=""/>
          <p:cNvPicPr/>
          <p:nvPr/>
        </p:nvPicPr>
        <p:blipFill>
          <a:blip r:embed="rId1"/>
          <a:stretch/>
        </p:blipFill>
        <p:spPr>
          <a:xfrm>
            <a:off x="0" y="733320"/>
            <a:ext cx="91440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Image 3" descr="ecran 10.JPG"/>
          <p:cNvPicPr/>
          <p:nvPr/>
        </p:nvPicPr>
        <p:blipFill>
          <a:blip r:embed="rId1"/>
          <a:stretch/>
        </p:blipFill>
        <p:spPr>
          <a:xfrm>
            <a:off x="0" y="700200"/>
            <a:ext cx="914400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1:30:05Z</dcterms:created>
  <dc:creator>famille MAZOYER</dc:creator>
  <dc:description/>
  <dc:language>en-US</dc:language>
  <cp:lastModifiedBy>pat</cp:lastModifiedBy>
  <dcterms:modified xsi:type="dcterms:W3CDTF">2012-06-03T21:36:21Z</dcterms:modified>
  <cp:revision>43</cp:revision>
  <dc:subject/>
  <dc:title>Présentation PowerPoint</dc:title>
</cp:coreProperties>
</file>